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911-7AEB-45B3-BF99-5EF6F8E1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02B-76F2-49FC-BE2F-4F403BCF05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152-4960-4729-9751-00DC83000D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954E-62BA-4FB7-9A35-404A22B0A9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F751-156C-4CC3-9427-6AA2BCD065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0A00-7831-483D-AEA3-F2D4CE8E84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A658-52CD-4B44-AB73-8E72D7566E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35C-E59E-4673-9B56-EDEC78F2E8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76A-9076-49DB-87DC-4B15281FC1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799E-DC25-403F-869B-DA37E1DD59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B6A-B858-4E5F-B1E7-3536FCAC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C63-C17F-4C2B-9021-5C93FDE6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5B1-F29F-4D4F-96EB-1B2AF599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760-A73D-4DE8-B8F4-C5B081A7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71F9-8CC0-48AD-B15E-A910B7CD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9CA1-C65A-4A64-ADD2-B757E5AA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069-4E9F-4717-BB0F-F7F66A0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CA06-52E3-4709-8A55-F5F8EF0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B03A-9F63-4DE3-A967-C916AB7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805-ED37-48B9-B7EA-64BC2BF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0CC6-5932-4989-B51F-427D073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C9A-D0F4-4A14-87A7-62750ED9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F117-399C-4DD1-AF25-1B99049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0D62-F8E3-4BFF-B660-AD1E6C9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69C5-F920-4BAC-AADF-07C86FBA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8A88-0533-4E29-95AC-96DE6A6D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9A93-12B3-4524-88CD-4A31A6CF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24E-26E0-42EE-87AA-65D2EF7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FD9-CA33-45AC-99BC-9EEE4608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0D3-2288-493B-905A-93FE52D2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BC1-C6D0-46E3-814C-61B3C24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537-CE22-4436-9303-09ED758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6E7-82E9-4E7A-AEDB-AA7BAEFA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0D3-9C6F-4D17-9F7A-37CEDE5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551-7449-4062-B1ED-C7734ED5F3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D337-A349-4217-A3CA-1DCF6E7CB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olcomhouse.com/geothermal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eys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Starr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Brandon James D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Anthony Alfred Paolu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889280" y="798480"/>
            <a:ext cx="527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60880" y="117936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" y="457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wo main types of geothermal energy come from the ground and the su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ord geothermal comes from two greek words. “Geo” which means Earth, and “Thermal” which means he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ly, the temperature rises one degree celsius for every 36 meters you go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harness the heat produced miles and miles underground and use it to our advantage in order to create energ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GeothermalenergyReykjavik"/>
          <p:cNvPicPr/>
          <p:nvPr/>
        </p:nvPicPr>
        <p:blipFill>
          <a:blip r:embed="rId1"/>
          <a:stretch/>
        </p:blipFill>
        <p:spPr>
          <a:xfrm>
            <a:off x="5048280" y="4143240"/>
            <a:ext cx="4095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eot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eodude"/>
          <p:cNvPicPr/>
          <p:nvPr/>
        </p:nvPicPr>
        <p:blipFill>
          <a:blip r:embed="rId1"/>
          <a:stretch/>
        </p:blipFill>
        <p:spPr>
          <a:xfrm>
            <a:off x="7956720" y="5562720"/>
            <a:ext cx="118728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advantages of Geothermal Ener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many places where you can build the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ermal pocket can run out of steam, producing barely any thermal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geothermal_power"/>
          <p:cNvPicPr/>
          <p:nvPr/>
        </p:nvPicPr>
        <p:blipFill>
          <a:blip r:embed="rId2"/>
          <a:stretch/>
        </p:blipFill>
        <p:spPr>
          <a:xfrm>
            <a:off x="0" y="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lution is not an issue with geothermal energy; it creates no harmful emi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is virtually limitless amounts of geothermal energy – it will last as long as the earth is extremely hot a few miles below the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s less room than many other alternative energy resources; takes up very little 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reliable – does not depend on chance. One can retrieve energy via this source regardless of any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ion cost is extremely low – this type of energy is very cheap to create, and the power plant can cover it’s own costs with the energy it mak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715000" y="5410080"/>
            <a:ext cx="1339920" cy="123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4343400" y="5410080"/>
            <a:ext cx="1333440" cy="123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2971800" y="5398920"/>
            <a:ext cx="1333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95Onix"/>
          <p:cNvPicPr/>
          <p:nvPr/>
        </p:nvPicPr>
        <p:blipFill>
          <a:blip r:embed="rId1"/>
          <a:stretch/>
        </p:blipFill>
        <p:spPr>
          <a:xfrm>
            <a:off x="7953480" y="0"/>
            <a:ext cx="119052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Disadvant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zardous gases could come up and are hard to dispose of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only do you need to find a hot place to drill, the rocks must be soft enough to drill throug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living stones"/>
          <p:cNvPicPr/>
          <p:nvPr/>
        </p:nvPicPr>
        <p:blipFill>
          <a:blip r:embed="rId2"/>
          <a:stretch/>
        </p:blipFill>
        <p:spPr>
          <a:xfrm>
            <a:off x="4648320" y="3657600"/>
            <a:ext cx="4495680" cy="2787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mg_113"/>
          <p:cNvPicPr/>
          <p:nvPr/>
        </p:nvPicPr>
        <p:blipFill>
          <a:blip r:embed="rId3"/>
          <a:stretch/>
        </p:blipFill>
        <p:spPr>
          <a:xfrm>
            <a:off x="228600" y="533520"/>
            <a:ext cx="3886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f the most sought after places for geothermal energy to be harnessed is Hawa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ifornia, Nevada, Utah, and Alaska are also all places commonly associated with geothermal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canoes have stirred up quite the controversy in terms of geothermal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va can be used to create energy extremely easily, as well as the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010280" y="152280"/>
            <a:ext cx="19195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graveler"/>
          <p:cNvPicPr/>
          <p:nvPr/>
        </p:nvPicPr>
        <p:blipFill>
          <a:blip r:embed="rId1"/>
          <a:stretch/>
        </p:blipFill>
        <p:spPr>
          <a:xfrm>
            <a:off x="7391520" y="5383080"/>
            <a:ext cx="1752480" cy="1474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untries that use Geothermal Ener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Five Countries:            Gigawatt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s of 20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----------------------- 8,7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ed States-------------  5,6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eland--------------------  5,6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key--------------------- 4,3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Zealand-------------- 1,96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724280" y="175248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china"/>
          <p:cNvPicPr/>
          <p:nvPr/>
        </p:nvPicPr>
        <p:blipFill>
          <a:blip r:embed="rId2"/>
          <a:stretch/>
        </p:blipFill>
        <p:spPr>
          <a:xfrm>
            <a:off x="457200" y="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usa2"/>
          <p:cNvPicPr/>
          <p:nvPr/>
        </p:nvPicPr>
        <p:blipFill>
          <a:blip r:embed="rId3"/>
          <a:stretch/>
        </p:blipFill>
        <p:spPr>
          <a:xfrm>
            <a:off x="5257800" y="304920"/>
            <a:ext cx="3567240" cy="287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Iceland"/>
          <p:cNvPicPr/>
          <p:nvPr/>
        </p:nvPicPr>
        <p:blipFill>
          <a:blip r:embed="rId4"/>
          <a:stretch/>
        </p:blipFill>
        <p:spPr>
          <a:xfrm>
            <a:off x="2209680" y="3352680"/>
            <a:ext cx="434340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solcomhouse.com/geothermal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ww.clean-energy-ideas.com/articles/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isadvantages_of_geothermal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_energy.ht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3:22:43Z</dcterms:created>
  <dc:creator>sasd</dc:creator>
  <dc:description/>
  <dc:language>en-US</dc:language>
  <cp:lastModifiedBy>Brandon Dutter</cp:lastModifiedBy>
  <dcterms:modified xsi:type="dcterms:W3CDTF">2009-05-12T10:06:32Z</dcterms:modified>
  <cp:revision>7</cp:revision>
  <dc:subject/>
  <dc:title>Slide 1</dc:title>
</cp:coreProperties>
</file>